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1BE-CB2E-4E6D-89B4-2EC29E3A4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2AD-4FE3-4634-861A-99B71AD7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2694-A5CD-4C9A-BB2C-0155C319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361-533F-4C33-8ADE-2709A46B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8E7B-885A-4D77-B420-9C602CAA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93BD-87C1-4794-89E1-726C890C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A7FC-0124-43B3-AFEF-DC497316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5C41-7267-4909-B9AE-7E110F36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AB52-2D01-4AC6-9BF1-5029098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D6D2-E75D-442A-BDDC-CC44D9A4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AF8C-593D-4848-94DD-0FEF853F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78B-F6B6-44C3-9B96-2EA53A8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B75C-23D7-49DA-8910-C964AD92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2BD9-4D58-4380-8CF0-078C2420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5532-A76B-4A2D-9B26-E856EE44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44F1-8A6C-46D3-B0A0-B083CC5C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31E4-0ECD-4F4E-81A9-952BF13E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4C0B-17BB-4FCF-A724-ED16A1B92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2DC04-C5D0-4ABD-B909-6A45ACE4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B777-8B4B-437A-AFE1-E2F144AC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A1BA-0F3B-4EC4-B362-EA1111AB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ECB9-38FE-4B78-A420-5C2CC23A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E4D-1114-4AC1-AFF0-837E7EED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0D32-FE78-434C-9F00-3853EB73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9F90-9F1D-4FA5-9342-95371D2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329D-32A2-4531-9FE1-2553D2FD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8AFF-26C6-47B9-8B8A-D098603D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0E4F-ECAD-482D-9776-1FE54957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6486-5055-4650-BF39-C0879245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1E498-6DB0-4745-9937-194434FB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7B9F-6E6B-45B4-BAE8-2676027F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F2B2-444F-43EB-AA71-F8D175B9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5956C-74C8-43A8-81BB-8FF40C2A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B68-9EDC-451A-97F3-CCF78C2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FD67-56E3-427E-86EA-5D7282B9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9E01-2F92-49DE-B63C-1108C4ED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1971D-CBC4-473B-94DC-513ABE8D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D448-A6F6-4F58-B8B1-4E6269E4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E0BA4-F3AF-457B-AC7B-69912C16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FE929-8BB7-493E-82FA-3EFCA574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C5D1-44F4-40C2-8A0D-03C5DD8E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14ED-515F-4E03-AED1-1EEF2895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D05FB-2927-41BA-8FB9-C36A086A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0BA22-3912-4654-9194-80C2A697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932-97E6-4E9F-A98B-8738DB85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9273-05FA-4EEF-BF29-0BECE36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CB068-3BA5-4A28-A71D-FD6EABCC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6F7BF-ED2D-44EF-BBBD-24389DFF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6F4A4-1DF3-4953-B7E3-B6B515E7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38521-1B28-439D-AC39-B8B1DA14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8689-715D-46EB-BA15-99996A3D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9844-8DD0-4308-AE67-ADCAB7A6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2C6B2-5657-4E34-8F93-1B887C07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6807-2AB0-4F61-8D08-CDA66AF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995FF-1C25-49F9-AA39-E34EEFE0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D593-FDCF-4AE8-A8D5-F7B9A193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DA866-88F7-4E73-AE33-1889EF99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09AAA-65B0-493B-9B11-9AE8A5D6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2477-F039-42E6-AC1C-CB21F663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6FE4F-50A5-49DD-843B-BBCD906C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BD74-37E0-446D-8116-290DAFF4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2283-B354-4E41-B21D-3810D0FF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EF625-FBF6-46B4-9466-C4448933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2887-D234-4829-94BB-2CB051E8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FD9C2-6235-420A-8330-C18CED8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1A906-DA2A-40AC-9410-1C044E8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649-C69E-4F7A-95E3-CE7121C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D4DF-A56B-4126-BAA2-47568F08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9B2AE-CEC9-487C-BE73-FA6623DC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185C-A095-41A2-9A75-5F6A2C5B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78C-83DC-4DF8-B55B-356868AB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DA1D-E1F0-4348-851D-4489244A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未知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836640" y="4610160"/>
              <a:ext cx="4572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318960" y="4610160"/>
              <a:ext cx="4752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4438-1801-46F2-835D-3A83CA01F8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未知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18960" y="3773520"/>
              <a:ext cx="5484960" cy="4572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838080" y="1752480"/>
              <a:ext cx="77691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18960" y="3773520"/>
              <a:ext cx="4752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838080" y="1752480"/>
              <a:ext cx="46080" cy="5119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7B95-79B6-48ED-9CAE-8E5B6D205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374F-FF3B-4140-BDF1-B9274AC84E10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B4E-C5ED-47CF-B3A2-1B4CB7E43AB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8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8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18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7C43-E855-40E8-9D15-7D6865544EDE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248320" y="4889520"/>
              <a:ext cx="2606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4972-EDF2-4412-9FAA-85C01C7A8F8B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5459040" y="1295280"/>
            <a:ext cx="26182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66"/>
                </a:solidFill>
                <a:latin typeface="Arial"/>
                <a:ea typeface="华文隶书"/>
              </a:rPr>
              <a:t>音乐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行楷"/>
              </a:rPr>
              <a:t>之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华文隶书"/>
              </a:rPr>
              <a:t>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Music"/>
          <p:cNvSpPr/>
          <p:nvPr/>
        </p:nvSpPr>
        <p:spPr>
          <a:xfrm rot="20116800">
            <a:off x="4087800" y="1372680"/>
            <a:ext cx="1523880" cy="1235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Music"/>
          <p:cNvSpPr/>
          <p:nvPr/>
        </p:nvSpPr>
        <p:spPr>
          <a:xfrm rot="2023800">
            <a:off x="2000160" y="1817280"/>
            <a:ext cx="1524240" cy="1371600"/>
          </a:xfrm>
          <a:prstGeom prst="pie">
            <a:avLst/>
          </a:prstGeom>
          <a:solidFill>
            <a:srgbClr val="ffff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Music"/>
          <p:cNvSpPr/>
          <p:nvPr/>
        </p:nvSpPr>
        <p:spPr>
          <a:xfrm rot="21013800">
            <a:off x="3392640" y="3247920"/>
            <a:ext cx="1295280" cy="11430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Music"/>
          <p:cNvSpPr/>
          <p:nvPr/>
        </p:nvSpPr>
        <p:spPr>
          <a:xfrm rot="20116800">
            <a:off x="630000" y="934560"/>
            <a:ext cx="1358640" cy="13114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5486400"/>
            <a:ext cx="1676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节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5791320"/>
            <a:ext cx="3733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勒曼，美国剧作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洪湖市新滩中学  张宽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Music"/>
          <p:cNvSpPr/>
          <p:nvPr/>
        </p:nvSpPr>
        <p:spPr>
          <a:xfrm rot="540000">
            <a:off x="533520" y="3200040"/>
            <a:ext cx="182880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Music"/>
          <p:cNvSpPr/>
          <p:nvPr/>
        </p:nvSpPr>
        <p:spPr>
          <a:xfrm rot="763200">
            <a:off x="4398480" y="3908520"/>
            <a:ext cx="2057400" cy="1752480"/>
          </a:xfrm>
          <a:prstGeom prst="pi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75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2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5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5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25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75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073240" y="304920"/>
            <a:ext cx="549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通过众人之口来表现玛丽亚这个人物的形象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这种描写的角度是什么？这样写的好处是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10880" y="158112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侧面描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能使玛丽亚这个形象塑造得更加血肉丰满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25160" y="3241800"/>
            <a:ext cx="140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从选文中另外选择一个人，用简洁的语言概括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的性格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54200" y="4400640"/>
            <a:ext cx="58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贝尔塔：性格固执，对玛丽亚一直报有偏见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只看见玛丽亚的不足，看不见她的优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17080" y="6442200"/>
            <a:ext cx="755640" cy="3715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 rot="10800000">
            <a:off x="610920" y="620280"/>
            <a:ext cx="1873080" cy="1159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609480" y="228600"/>
            <a:ext cx="57294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快读课文</a:t>
            </a: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,</a:t>
            </a: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感受人物形象。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219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、 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读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课文第二个场景众修女七嘴八舌评说玛丽亚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唱段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，请概括众人的意见，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综合</a:t>
            </a: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说说众人眼中的玛丽亚是个怎样的人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124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在众嬷嬷眼中，玛丽亚天性活泼，热爱歌唱，不守常规，无拘无束；纯真欢快，自由自在；她自己快乐，也总是给别人带来快乐；她十分可爱又让人头痛。玛丽亚自由活泼的性格，与修道院的环境和要求极不协调，因此她们认为她不适合当修女。她们对玛丽亚非常喜爱而又无所适从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>
            <a:lum bright="30000"/>
          </a:blip>
          <a:srcRect l="0" t="0" r="0" b="24946"/>
          <a:stretch/>
        </p:blipFill>
        <p:spPr>
          <a:xfrm>
            <a:off x="152280" y="228600"/>
            <a:ext cx="914256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001000" y="6400800"/>
            <a:ext cx="684360" cy="3747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9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0" y="1050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、课文临近结尾处写玛丽亚回到修道院的情形。请仔细阅读该文段</a:t>
            </a:r>
            <a:r>
              <a:rPr b="1" lang="en-US" sz="4000" spc="-1" strike="noStrike">
                <a:solidFill>
                  <a:srgbClr val="000099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99"/>
                </a:solidFill>
                <a:latin typeface="宋体"/>
              </a:rPr>
              <a:t>猜想一下她当时的神态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67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玛丽亚闯进来时一连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匆忙、慌张、快捷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动作。在众目睽睽之下，她的表情由羞愧转为无奈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373120" y="533520"/>
            <a:ext cx="495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读完全问后，你认为课文是怎样体现音乐故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片的特色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37440" y="3938760"/>
            <a:ext cx="509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以歌唱的方式，来塑造人物。无论是玛丽亚的内心独白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还是众麽麽对白，都用歌唱的方式来表现，这二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都体现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音乐之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的音乐故事片的特色。</a:t>
            </a:r>
            <a:r>
              <a:rPr b="1" lang="zh-CN" sz="2800" spc="-1" strike="noStrike">
                <a:solidFill>
                  <a:srgbClr val="00ff99"/>
                </a:solidFill>
                <a:latin typeface="Arial"/>
                <a:ea typeface="华文行楷"/>
              </a:rPr>
              <a:t>音乐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784836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  <a:ea typeface="隶书"/>
              </a:rPr>
              <a:t>4</a:t>
            </a:r>
            <a:r>
              <a:rPr b="0" lang="zh-CN" sz="4300" spc="-1" strike="noStrike">
                <a:solidFill>
                  <a:srgbClr val="000000"/>
                </a:solidFill>
                <a:latin typeface="Verdana"/>
                <a:ea typeface="隶书"/>
              </a:rPr>
              <a:t>、找出本文的正面描写和侧面描写，并体会其作用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玛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亚在萨尔茨堡郊外纵情歌唱，快乐游玩→正面描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修道院内，众人对玛利亚七嘴八舌地议论→侧面描写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玛丽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亚风风火火地闯进修道院→正面描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Verdana"/>
                <a:ea typeface="隶书"/>
              </a:rPr>
              <a:t>很好地体现了人物的性格特征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23120" y="557280"/>
            <a:ext cx="838080" cy="838080"/>
          </a:xfrm>
          <a:custGeom>
            <a:avLst/>
            <a:gdLst>
              <a:gd name="textAreaLeft" fmla="*/ 308520 w 838080"/>
              <a:gd name="textAreaRight" fmla="*/ 529560 w 838080"/>
              <a:gd name="textAreaTop" fmla="*/ 308520 h 838080"/>
              <a:gd name="textAreaBottom" fmla="*/ 529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227240" y="-50760"/>
            <a:ext cx="761760" cy="912600"/>
          </a:xfrm>
          <a:custGeom>
            <a:avLst/>
            <a:gdLst>
              <a:gd name="textAreaLeft" fmla="*/ 313920 w 761760"/>
              <a:gd name="textAreaRight" fmla="*/ 447840 w 761760"/>
              <a:gd name="textAreaTop" fmla="*/ 375840 h 912600"/>
              <a:gd name="textAreaBottom" fmla="*/ 536760 h 91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0200" y="861840"/>
            <a:ext cx="609840" cy="838440"/>
          </a:xfrm>
          <a:custGeom>
            <a:avLst/>
            <a:gdLst>
              <a:gd name="textAreaLeft" fmla="*/ 237960 w 609840"/>
              <a:gd name="textAreaRight" fmla="*/ 371880 w 609840"/>
              <a:gd name="textAreaTop" fmla="*/ 326880 h 838440"/>
              <a:gd name="textAreaBottom" fmla="*/ 51156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25" y="8425"/>
                </a:lnTo>
                <a:lnTo>
                  <a:pt x="10800" y="0"/>
                </a:lnTo>
                <a:lnTo>
                  <a:pt x="13175" y="8425"/>
                </a:lnTo>
                <a:lnTo>
                  <a:pt x="21600" y="10800"/>
                </a:lnTo>
                <a:lnTo>
                  <a:pt x="13175" y="13175"/>
                </a:lnTo>
                <a:lnTo>
                  <a:pt x="10800" y="21600"/>
                </a:lnTo>
                <a:lnTo>
                  <a:pt x="8425" y="1317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455840" y="785880"/>
            <a:ext cx="5715000" cy="57924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rot="11746200">
            <a:off x="4600440" y="313920"/>
            <a:ext cx="611280" cy="617760"/>
          </a:xfrm>
          <a:custGeom>
            <a:avLst/>
            <a:gdLst>
              <a:gd name="textAreaLeft" fmla="*/ 225000 w 611280"/>
              <a:gd name="textAreaRight" fmla="*/ 386280 w 611280"/>
              <a:gd name="textAreaTop" fmla="*/ 227160 h 617760"/>
              <a:gd name="textAreaBottom" fmla="*/ 3906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1746200">
            <a:off x="8768880" y="-360"/>
            <a:ext cx="374760" cy="671400"/>
          </a:xfrm>
          <a:custGeom>
            <a:avLst/>
            <a:gdLst>
              <a:gd name="textAreaLeft" fmla="*/ 154440 w 374760"/>
              <a:gd name="textAreaRight" fmla="*/ 220320 w 374760"/>
              <a:gd name="textAreaTop" fmla="*/ 276480 h 671400"/>
              <a:gd name="textAreaBottom" fmla="*/ 394920 h 671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1746200">
            <a:off x="6878160" y="680400"/>
            <a:ext cx="306360" cy="617400"/>
          </a:xfrm>
          <a:custGeom>
            <a:avLst/>
            <a:gdLst>
              <a:gd name="textAreaLeft" fmla="*/ 119520 w 306360"/>
              <a:gd name="textAreaRight" fmla="*/ 186840 w 306360"/>
              <a:gd name="textAreaTop" fmla="*/ 240840 h 617400"/>
              <a:gd name="textAreaBottom" fmla="*/ 3765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425" y="8425"/>
                </a:lnTo>
                <a:lnTo>
                  <a:pt x="10800" y="0"/>
                </a:lnTo>
                <a:lnTo>
                  <a:pt x="13175" y="8425"/>
                </a:lnTo>
                <a:lnTo>
                  <a:pt x="21600" y="10800"/>
                </a:lnTo>
                <a:lnTo>
                  <a:pt x="13175" y="13175"/>
                </a:lnTo>
                <a:lnTo>
                  <a:pt x="10800" y="21600"/>
                </a:lnTo>
                <a:lnTo>
                  <a:pt x="8425" y="13175"/>
                </a:lnTo>
                <a:lnTo>
                  <a:pt x="0" y="10800"/>
                </a:lnTo>
                <a:close/>
              </a:path>
            </a:pathLst>
          </a:custGeom>
          <a:solidFill>
            <a:srgbClr val="ff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1746200">
            <a:off x="4887360" y="593280"/>
            <a:ext cx="1858680" cy="5796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115920"/>
            <a:ext cx="838080" cy="838080"/>
          </a:xfrm>
          <a:custGeom>
            <a:avLst/>
            <a:gdLst>
              <a:gd name="textAreaLeft" fmla="*/ 308520 w 838080"/>
              <a:gd name="textAreaRight" fmla="*/ 529560 w 838080"/>
              <a:gd name="textAreaTop" fmla="*/ 308520 h 838080"/>
              <a:gd name="textAreaBottom" fmla="*/ 529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950" y="7950"/>
                </a:lnTo>
                <a:lnTo>
                  <a:pt x="10800" y="0"/>
                </a:lnTo>
                <a:lnTo>
                  <a:pt x="13650" y="7950"/>
                </a:lnTo>
                <a:lnTo>
                  <a:pt x="21600" y="10800"/>
                </a:lnTo>
                <a:lnTo>
                  <a:pt x="13650" y="13650"/>
                </a:lnTo>
                <a:lnTo>
                  <a:pt x="10800" y="21600"/>
                </a:lnTo>
                <a:lnTo>
                  <a:pt x="7950" y="13650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932360" y="0"/>
            <a:ext cx="433440" cy="555480"/>
          </a:xfrm>
          <a:custGeom>
            <a:avLst/>
            <a:gdLst>
              <a:gd name="textAreaLeft" fmla="*/ 178560 w 433440"/>
              <a:gd name="textAreaRight" fmla="*/ 254880 w 433440"/>
              <a:gd name="textAreaTop" fmla="*/ 228960 h 555480"/>
              <a:gd name="textAreaBottom" fmla="*/ 326520 h 555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0"/>
            <a:ext cx="8381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研读赏析，探究其写法。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9907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剧本在刻画人物形象方面有哪些独到之处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?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565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99"/>
                </a:solidFill>
                <a:latin typeface="Verdana"/>
              </a:rPr>
              <a:t>课文运用人物的语言、动作、神态描写以及环境描写，并将正面描写与侧面描写相结合，栩栩如生地刻画了少女玛丽亚热爱歌唱、热爱自然、心灵美好、活泼自由、纯真快乐的性格，使玛丽亚这位女主人公的形象跃然纸上 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Verdana"/>
              </a:rPr>
              <a:t>课堂小结 </a:t>
            </a:r>
            <a:br>
              <a:rPr sz="3000"/>
            </a:b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Verdana"/>
              </a:rPr>
              <a:t>《音乐之声》是电影史上一部经典的音乐故事片，这一节课我们集中欣赏了其画面美、形象美，音乐美。眼前似乎是萨尔茨堡那壮丽优美的景色、玛丽亚活泼轻快的身影，耳边似乎传来玛丽亚欢快的歌唱，那优美动人的旋律从心里流过，得到了至美的艺术享受。让我们诚挚地道一声：感谢玛丽亚，感谢作者勒曼</a:t>
            </a:r>
            <a:r>
              <a:rPr b="1" lang="en-US" sz="3000" spc="-1" strike="noStrike">
                <a:solidFill>
                  <a:srgbClr val="008000"/>
                </a:solidFill>
                <a:latin typeface="Verdana"/>
              </a:rPr>
              <a:t>。 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0880" y="8254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你周围有像玛丽亚这种性格的人吗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</a:rPr>
              <a:t>?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注意观察，用一段话描写这个人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304920"/>
            <a:ext cx="2438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试牛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6600"/>
                </a:solidFill>
                <a:latin typeface="Verdana"/>
                <a:ea typeface="幼圆"/>
              </a:rPr>
              <a:t>背景概要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音乐之声</a:t>
            </a: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讲的是发生在</a:t>
            </a: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38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奥地利的一个真实的故事：萨尔茨堡地方有个冯</a:t>
            </a:r>
            <a:r>
              <a:rPr b="0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·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特拉普上校，他和他的七个孩子以及原先是家庭教师的妻子，在纳粹德国吞并奥地利以后，组成了家庭合唱团，到处演唱奥地利的民歌和爱国歌曲。这部影片成为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经典的音乐片之一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广为流传的经典音乐有：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音乐之声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孤独的牧羊女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雪绒花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来咪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《</a:t>
            </a:r>
            <a:r>
              <a:rPr b="0" lang="zh-CN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晚安，再见 </a:t>
            </a:r>
            <a:r>
              <a:rPr b="0" lang="en-US" sz="30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09480" y="457200"/>
            <a:ext cx="81536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影视剧本的特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2" action="ppaction://hlinksldjump"/>
              </a:rPr>
              <a:t>电影文学剧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3" action="ppaction://hlinksldjump"/>
              </a:rPr>
              <a:t>        专供拍摄影片而创作的剧本，是电影艺术的重要组成部分，也称电影文学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4" action="ppaction://hlinksldjump"/>
              </a:rPr>
              <a:t>        电影文学剧本跟小说、戏剧一样需要塑造人物、交代情节，其容量也像戏剧一样受到时间的限制(摄制完成的电影一般放映两小时左右)。在电影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5" action="ppaction://hlinksldjump"/>
              </a:rPr>
              <a:t>剧本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6" action="ppaction://hlinksldjump"/>
              </a:rPr>
              <a:t>中，人物性格的刻画，场景背景的交代．情节的发展，一切都须化为画面，很少以叙述人的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宋体"/>
                <a:hlinkClick r:id="rId7" action="ppaction://hlinksldjump"/>
              </a:rPr>
              <a:t>“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8" action="ppaction://hlinksldjump"/>
              </a:rPr>
              <a:t>画外音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宋体"/>
                <a:hlinkClick r:id="rId9" action="ppaction://hlinksldjump"/>
              </a:rPr>
              <a:t>”</a:t>
            </a:r>
            <a:r>
              <a:rPr b="0" lang="zh-CN" sz="2800" spc="-1" strike="noStrike" u="sng">
                <a:solidFill>
                  <a:srgbClr val="336699"/>
                </a:solidFill>
                <a:uFillTx/>
                <a:latin typeface="Times New Roman"/>
                <a:hlinkClick r:id="rId10" action="ppaction://hlinksldjump"/>
              </a:rPr>
              <a:t>(或字幕)表述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62012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Verdana"/>
                <a:ea typeface="幼圆"/>
              </a:rPr>
              <a:t>初读课文，给生词注音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鳞次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栉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比（     ）   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伫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立（       ）    山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众说纷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纭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）嬷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嬷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       ） 按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捺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峥嵘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                ）   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涟漪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  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悔（        ） 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虔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诚（       ）    远</a:t>
            </a:r>
            <a:r>
              <a:rPr b="0" lang="zh-CN" sz="2600" spc="-1" strike="noStrike">
                <a:solidFill>
                  <a:srgbClr val="ff0000"/>
                </a:solidFill>
                <a:latin typeface="Verdana"/>
              </a:rPr>
              <a:t>眺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     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3366"/>
                </a:solidFill>
                <a:latin typeface="Verdana"/>
                <a:ea typeface="幼圆"/>
              </a:rPr>
              <a:t>解释词语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流连忘返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通宵达旦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遐思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肃穆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213372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zh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zh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l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057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yú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19720" y="213372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mó m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1520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n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2514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zhēng ró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2590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liá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3048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chà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qiá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ti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14600" y="394020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留恋不止，舍不得离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4495680"/>
            <a:ext cx="42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从天黑到天亮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495288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悠远的思索或想象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5486400"/>
            <a:ext cx="424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宋体"/>
              </a:rPr>
              <a:t>严肃安静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0"/>
            <a:ext cx="4038480" cy="579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28600"/>
            <a:ext cx="3733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行楷"/>
              </a:rPr>
              <a:t>漫步字词百花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66"/>
                </a:solidFill>
                <a:latin typeface="Arial"/>
                <a:ea typeface="华文彩云"/>
              </a:rPr>
              <a:t>再读课文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思考：课文可分为几个场景？每个场景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写了什么内容</a:t>
            </a:r>
            <a:r>
              <a:rPr b="1" lang="zh-CN" sz="2800" spc="-1" strike="noStrike">
                <a:solidFill>
                  <a:srgbClr val="666699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5120" y="609480"/>
            <a:ext cx="3581280" cy="76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ff66"/>
                </a:solidFill>
                <a:latin typeface="Arial"/>
                <a:ea typeface="华文行楷"/>
              </a:rPr>
              <a:t>对话作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00">
    <p:comb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838080" y="152280"/>
            <a:ext cx="2971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>
                      <a:alpha val="50000"/>
                    </a:srgbClr>
                  </a:outerShdw>
                </a:effectLst>
                <a:latin typeface="黑体"/>
              </a:rPr>
              <a:t>结构分析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5638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细黑"/>
              </a:rPr>
              <a:t>全文共有两个场景，分别是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细黑"/>
              </a:rPr>
              <a:t>第一场景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华文细黑"/>
              </a:rPr>
              <a:t>第二场景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16765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开头至“急速地跑下山来”）在修道院外，玛丽亚忘情山水，纵情歌唱。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画面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33526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“古老的修道院”至结尾）在修道院内，众嬷嬷对玛丽亚说长道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0">
    <p:cover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786120" y="533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阅读第一个场景的内容，回答下列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9960" y="1066680"/>
            <a:ext cx="505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开头属于什么描写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怎样描写阿尔卑斯山的风光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这样写起什么作用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43560" y="281952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环境描写，它全方位由远而近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由高而低地描写主人公活动的背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衬托出玛丽亚的自由快乐的个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4280" y="4343400"/>
            <a:ext cx="46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流连往返”是什么意思？表明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5960" y="56386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留恋得忘记返回。表现了主人公对大自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的无比热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68240" y="270000"/>
            <a:ext cx="3551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读玛丽亚歌唱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音乐之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思考：此段用了哪些修辞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表现了玛丽亚什么个性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07760" y="1981080"/>
            <a:ext cx="76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前三句后三句是排比，第五、七、九句是比喻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第十句是夸张。表现了她对音乐、自然的热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60920" y="4800600"/>
            <a:ext cx="571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4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这个场景的最后一句“忽然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…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跑下山来”运用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什么人物描写？表现了玛丽亚怎样的性格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33360" y="601992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动作描写。活泼自由。</a:t>
            </a:r>
            <a:r>
              <a:rPr b="1" lang="zh-CN" sz="3200" spc="-1" strike="noStrike">
                <a:solidFill>
                  <a:srgbClr val="00ff99"/>
                </a:solidFill>
                <a:latin typeface="Arial"/>
                <a:ea typeface="华文行楷"/>
              </a:rPr>
              <a:t>形象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14400" y="533520"/>
            <a:ext cx="54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阅读第二个场景，选点品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752480"/>
            <a:ext cx="82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用“不动声色”来形容院长，突出她性格中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什么特点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90960" y="28954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老成持重，城府很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6960" y="3505320"/>
            <a:ext cx="844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你是如何理解“反正我看黑羊身上的毛也一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暖和”这句话的言外之意的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5680" y="49528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答：用比喻形象地说明玛丽亚也可以做修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3:51:31Z</dcterms:created>
  <dc:creator>清风明月</dc:creator>
  <dc:description/>
  <cp:keywords>音乐之声</cp:keywords>
  <dc:language>en-US</dc:language>
  <cp:lastModifiedBy>User</cp:lastModifiedBy>
  <dcterms:modified xsi:type="dcterms:W3CDTF">2015-04-14T06:19:19Z</dcterms:modified>
  <cp:revision>106</cp:revision>
  <dc:subject>语文课件</dc:subject>
  <dc:title>音乐之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  <property fmtid="{D5CDD505-2E9C-101B-9397-08002B2CF9AE}" pid="3" name="Version">
    <vt:r8>1</vt:r8>
  </property>
</Properties>
</file>